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F3E-CBC6-4DE2-AE3E-6C2EBAC7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4B4-3B85-417B-9247-DD001BDF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767-654B-43D9-8290-936D07B7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DB8-5131-4E4C-931C-C4F80CC5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2D2-E9E1-468F-9C67-9AA332C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E6F-794C-4F9F-B10A-505A6517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B62-E329-42F1-A5F1-392510C7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BBE-7AB0-4E5C-A1D2-3D8E8600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A65-17E4-42BC-9463-0ABB5E7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834-A986-48D9-BD4A-E368C658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6D3-314A-455A-9E6C-1A6DC968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111-8186-4FEB-9D76-79B73570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574-BE9A-4B7A-8F2F-A1FBDF8AAB19}" type="slidenum">
              <a:rPr b="0" lang="en-US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Оператор\Desktop\гол.gif"/>
          <p:cNvPicPr/>
          <p:nvPr/>
        </p:nvPicPr>
        <p:blipFill>
          <a:blip r:embed="rId1"/>
          <a:stretch/>
        </p:blipFill>
        <p:spPr>
          <a:xfrm>
            <a:off x="4608360" y="3513240"/>
            <a:ext cx="4535640" cy="3344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43" name="Название 1"/>
          <p:cNvSpPr/>
          <p:nvPr/>
        </p:nvSpPr>
        <p:spPr>
          <a:xfrm>
            <a:off x="1819440" y="1836720"/>
            <a:ext cx="6967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перед в прошлое»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 РВИО «Отчизны верные сыны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1819440" y="3511440"/>
            <a:ext cx="67752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ая общеразвивающая программ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ятельность детских и молодежных военно-исторических и военно-патриотических клубов и объединений»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600200" y="539640"/>
            <a:ext cx="424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ЕННО-ИСТОРИЧЕСКО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ЕСТВ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6" name="Picture 7" descr="C:\Users\Оператор\Desktop\рвио.gif"/>
          <p:cNvPicPr/>
          <p:nvPr/>
        </p:nvPicPr>
        <p:blipFill>
          <a:blip r:embed="rId3"/>
          <a:stretch/>
        </p:blipFill>
        <p:spPr>
          <a:xfrm>
            <a:off x="6062760" y="541440"/>
            <a:ext cx="111600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Users\Оператор\Desktop\Лого кр.gif"/>
          <p:cNvPicPr/>
          <p:nvPr/>
        </p:nvPicPr>
        <p:blipFill>
          <a:blip r:embed="rId4"/>
          <a:stretch/>
        </p:blipFill>
        <p:spPr>
          <a:xfrm>
            <a:off x="795240" y="2009880"/>
            <a:ext cx="804960" cy="103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Users\Оператор\Desktop\артек.gif"/>
          <p:cNvPicPr/>
          <p:nvPr/>
        </p:nvPicPr>
        <p:blipFill>
          <a:blip r:embed="rId5"/>
          <a:stretch/>
        </p:blipFill>
        <p:spPr>
          <a:xfrm>
            <a:off x="7572240" y="541440"/>
            <a:ext cx="102240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C:\Users\Оператор\Desktop\кр.gif"/>
          <p:cNvPicPr/>
          <p:nvPr/>
        </p:nvPicPr>
        <p:blipFill>
          <a:blip r:embed="rId1"/>
          <a:stretch/>
        </p:blipFill>
        <p:spPr>
          <a:xfrm>
            <a:off x="4606920" y="3511440"/>
            <a:ext cx="4537080" cy="3346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перед в прошлое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79040" y="1580760"/>
            <a:ext cx="7583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программа интегрирует познавательный, деятельностный, поведенческий компонент исторического образования, расширяя представления детей и подростков об истории, фактах отечественной истории, свидетельствах исторического наследия Артека (Кры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Оператор\Desktop\гол.gif"/>
          <p:cNvPicPr/>
          <p:nvPr/>
        </p:nvPicPr>
        <p:blipFill>
          <a:blip r:embed="rId1"/>
          <a:stretch/>
        </p:blipFill>
        <p:spPr>
          <a:xfrm>
            <a:off x="4608360" y="3513240"/>
            <a:ext cx="4535640" cy="3344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перед в прошлое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79040" y="1580760"/>
            <a:ext cx="7583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ой предусмотрены встречи 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истром культуры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.Р. Медински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ым директором Российского военно-исторического общества М.Ю. Мягков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ительным директором Российского военно-исторического общества В.А. Кононов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ленами Научного и Творческого совета РВИ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ными деятелями культуры и спортс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8" descr="C:\Users\Оператор\Desktop\кр.gif"/>
          <p:cNvPicPr/>
          <p:nvPr/>
        </p:nvPicPr>
        <p:blipFill>
          <a:blip r:embed="rId1"/>
          <a:stretch/>
        </p:blipFill>
        <p:spPr>
          <a:xfrm>
            <a:off x="4606920" y="3511440"/>
            <a:ext cx="4537080" cy="334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2120" y="45396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 «Отчизны верные сыны» РВИ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менах МДЦ «Артек»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1892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 программы - Социально-педагогическ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 реализации программы – 21 день (36 часов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мена 2017 года – с 23 января по 13 февра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смена 2017 года – с 16 февраля по 9 ма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смена 2017 года – с 12 марта по 2 апр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вая группа программы – дети возрастом от 12 до 15 лет: Воспитанники региональных молодежных военно-исторических объединений, клубов военно-исторической реконструкции, поисковых отрядов, школ юных музееведов и экскурсоводов, а также лауреаты профильных фестивалей, конкурсов, смотров, олимпиад из субъектов РФ, в которых РВИО представлено региональными отделени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Users\Оператор\Desktop\гол.gif"/>
          <p:cNvPicPr/>
          <p:nvPr/>
        </p:nvPicPr>
        <p:blipFill>
          <a:blip r:embed="rId1"/>
          <a:stretch/>
        </p:blipFill>
        <p:spPr>
          <a:xfrm>
            <a:off x="4608360" y="3513240"/>
            <a:ext cx="4535640" cy="334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 «Отчизны верные сыны» РВИО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 програм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смены участники знакомятся с историческими памятниками Крыма и Севастополя, ключевыми местами «Артека», посещают места боевой славы, участвуют в викторине и в других мероприятиях, приуроченных к памятным датам российской истории, участвуют в благоустройстве военно-исторических памятников и воинских захоронений, в создании интерактивных исторических карт, знакомься с основами поисковой работы, становятся авторами-разработчиками описаний “QR-кода” и установки памятных знаков на территории «Артека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грамме предусмотрено изучение военной истории, участники познакомятся с боевой историей своей семьи через общедоступные электронные базы данных Минобороны России, будут реализованы просмотры исторических фильмов в рамках «Дискуссионного киноклуба», встречи с актерами и режиссерами, деятелями культуры, историками, журналистами и общественными деятелями. Подростки примут участие в исторических конкурсах, играх, викторинах, командной комплексной интеллектуальной игре на местности, спортивно-историческом марафон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C:\Users\Оператор\Desktop\кр.gif"/>
          <p:cNvPicPr/>
          <p:nvPr/>
        </p:nvPicPr>
        <p:blipFill>
          <a:blip r:embed="rId1"/>
          <a:stretch/>
        </p:blipFill>
        <p:spPr>
          <a:xfrm>
            <a:off x="4606920" y="3511440"/>
            <a:ext cx="4537080" cy="3346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2120" y="453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ряд «Отчизны верные сыны» РВИО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программы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9 ОСНОВНЫХ ТЕМ СМЕНЫ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618920"/>
            <a:ext cx="80582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ма 1. История Крыма. История «Арте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тречи и беседы с профессиональными историками «ВЫСЛУШАЙ. РАССКАЖИ. СПРОСИ!»; организация экскурсий по наиболее значимым историческим «местам памяти» на территории Крыма, в том числе музеев; подготовка к организации исторических викторин в детских лагерях «Артека»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ма 2. Исследовательский проект «Артековская историческая Википед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рганизация исследовательской деятельности «История России – история семьи». Работа над созданием исторической карты Артека, презентацией памятных мест и описание знаков с QR код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Экскурсия по Южному берегу Крым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Экскурсия в город-герой Севастополь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Экскурсия по территории «МДЦ «Артек»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ма 3. Дискуссионный киноклуб «Маленькие герои большой истор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смотр и обсуждение фильмов военно-исторической тематики, в том числе о судьбах детей – участников исторических событий. Дискуссии по итогам просмотров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ема 4. Музей истории «Артек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дготовка и реализация личностно-ориентированных проектов на материалах музея истории «Артека»; разработка и проведение экскурсий по его экспозиции. Формирование информационных материалов на основе привезенных участниками отрядов артефакт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«Артек» и его герои. Установка и открытие одного исторического знака с QR кодом (предположительно, первый знак будет размещен у домика З. Соловьева в д/л Морской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Экскурсия в историко-краеведческий музей с проведением викторины по полученной информации, в музей «Космос», в музей военно-морского флот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Users\Оператор\Desktop\гол.gif"/>
          <p:cNvPicPr/>
          <p:nvPr/>
        </p:nvPicPr>
        <p:blipFill>
          <a:blip r:embed="rId1"/>
          <a:stretch/>
        </p:blipFill>
        <p:spPr>
          <a:xfrm>
            <a:off x="4608360" y="3513240"/>
            <a:ext cx="4535640" cy="334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5. Выпуск боевых листков отрядами РВИО «Отчизны верные сы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пределенной исторической темы, отражение участниками полученных знаний и впечатлений через создание боевых листков разного вида (декоративно-прикладной, электронный, литературный и др.)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6. Поисково-исследовательский проект «О ком молчат камни?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отрядов РВИО «Отчизны верные сыны», участвуют в поисково-исследовательском проекте «О ком молчат камни?», рассказываю их историю, тем самым, сохраняя память о значимых исторических событиях своей Отчизны. Проект подразумевает выезд отряда за пределы лагеря на территорию Крыма (Севастополь, Симферополь и др., в зависимости от тематического направления смены) и посещение исторически-значимых памятных мест Крыма, получение знаний методом дискуссионных встреч с профессиональными историками, посещение музея по определенной индивидуальной программе, выезд на памятное место, облагораживание памятного места, установка памятного знака с подготовленным информационным материалом участниками отряда РВИО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Исследовательский проект «Я ПОМНЮ, Я ГОРЖУСЬ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участников отряда РВИО «Отчизны верные сыны» с подлинными архивными документами об участниках войны, их подвигах, боевом пути, гибели и местах захоронения. С помощью официальных общедоступных интернет-ресурсов Министерства обороны Российской Федерации "Память народа", "Мемориал" и "Подвиг народа". Самостоятельный поиск исторических свидетельств о своих родственниках, материалов и документов, рассказывающих о вкладе семьи в историю Отечеств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8. «Дети победы. Хранители памяти», помощь ветеранам Великой Отечественной вой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речи с ветеранами Великой Отечественной войны, проживающими на территории пгт. Гурзуф. Общение, вручение подарочных наборов РВИО, помощь по хозяйству, оказание психологической поддержк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9. МЕДИАшаги юного истор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ая работа с тематическим интернет-контентом; разработка и создание собственного медиапродукта историко-патриотической направленности и размещение его в социальных сет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2120" y="453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ряд «Отчизны верные сыны» РВИО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программы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9 ОСНОВНЫХ ТЕМ СМЕНЫ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G:\1. МЕРОПРИЯТИЯ\2017\АРТЕК\Командировочные\ВИДЕО и ПРЕЗЕНТАЦИИ\Финальный кадр.jpg"/>
          <p:cNvPicPr/>
          <p:nvPr/>
        </p:nvPicPr>
        <p:blipFill>
          <a:blip r:embed="rId1"/>
          <a:stretch/>
        </p:blipFill>
        <p:spPr>
          <a:xfrm>
            <a:off x="201600" y="1101600"/>
            <a:ext cx="87408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C:\Users\Оператор\Desktop\кр.gif"/>
          <p:cNvPicPr/>
          <p:nvPr/>
        </p:nvPicPr>
        <p:blipFill>
          <a:blip r:embed="rId1"/>
          <a:stretch/>
        </p:blipFill>
        <p:spPr>
          <a:xfrm>
            <a:off x="0" y="3511440"/>
            <a:ext cx="4537080" cy="334656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1600200" y="5545080"/>
            <a:ext cx="67626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Название 1"/>
          <p:cNvSpPr/>
          <p:nvPr/>
        </p:nvSpPr>
        <p:spPr>
          <a:xfrm>
            <a:off x="457200" y="674640"/>
            <a:ext cx="8264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Вперед в прошлое» РВИО.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457200" y="161928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 программы - Социально-педагогическа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 реализации программы – 21 день (36 часов). 6 смена 2017 года – с 27 мая по 17 июн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вая группа программы –дети возрастом от 12 до 15 лет: Воспитанники региональных молодежных военно-исторических объединений, клубов военно-исторической реконструкции, поисковых отрядов, школ юных музееведов и экскурсоводов, а также лауреаты профильных фестивалей, конкурсов, смотров, олимпиад из субъектов РФ, в которых РВИО представлено региональными отделения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3" name="Picture 9" descr="C:\Users\Оператор\Desktop\Лого кр.gif"/>
          <p:cNvPicPr/>
          <p:nvPr/>
        </p:nvPicPr>
        <p:blipFill>
          <a:blip r:embed="rId2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Users\Оператор\Desktop\гол.gif"/>
          <p:cNvPicPr/>
          <p:nvPr/>
        </p:nvPicPr>
        <p:blipFill>
          <a:blip r:embed="rId1"/>
          <a:stretch/>
        </p:blipFill>
        <p:spPr>
          <a:xfrm>
            <a:off x="4608360" y="3513240"/>
            <a:ext cx="4535640" cy="334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86832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Вперед в прошлое» РВИО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держание программы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18920"/>
            <a:ext cx="82296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 течение смены подростки участвуют в памятных мероприятиях, совершают походы по горно-лесной (речной) местности, участвуют в благоустройстве исторических памятников и воинских захоронений в серии образовательных квестов, связанных с изучением исторических памятников Крыма, организуют мастер-классы по военно-историческому образованию, деятельности военно-патриотических клубов, проходят историко-краеведческий марафон «Вперед в прошлое»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 программе предусмотрено изучение военной истории, участники познакомятся с боевой историей своей семьи через общедоступные электронные базы данных Минобороны России. В соответствии с программой будут реализованы просмотры исторических фильмов в рамках «Дискуссионного киноклуба», встречи с актерами и режиссерами, деятелями культуры, историками, журналистами и общественными деятелям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C:\Users\Оператор\Desktop\кр.gif"/>
          <p:cNvPicPr/>
          <p:nvPr/>
        </p:nvPicPr>
        <p:blipFill>
          <a:blip r:embed="rId1"/>
          <a:stretch/>
        </p:blipFill>
        <p:spPr>
          <a:xfrm>
            <a:off x="4606920" y="3511440"/>
            <a:ext cx="4537080" cy="334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453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Вперед в прошлое» РВИО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8 ОСНОВНЫХ ТЕМ СМЕНЫ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19280"/>
            <a:ext cx="849168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ма 1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Встречи и беседы с профессиональными историками; организация экскурсий по наиболее значимым историческим «местам памяти» на территории Крыма, в том числе по музею «Артека»; Исследовательский проект «Исторические карты Крыма и Артека»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ма 2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«Историко-краеведческая карта «Артека». Обсуждение технологии создания историко-краеведческой карты «Артека»; проведение фотокросса для формирования карты историко-краеведческого марафона «Вперед в прошлое»; проведение историко-краеведческого марафона «Вперед в прошлое»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ма 3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Работа киноклуба «Маленькие герои большой истории». Просмотр и обсуждение фильмов военно-исторической тематики, в том числе о судьбах детей – участников исторических событий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ма 4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«Артек» и его герои». Подготовка и реализация личностно-ориентированных проектов с помощью материалов музея истории «Артека»; разработка и проведение экскурсий по его территории. Работа в Артековских музеях: обработка и актуализация архивного материала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ма 5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«МЕДИАшаги юного историка». Аналитическая работа с тематическим контентом; разработка и создание собственного медиапродукта историко-патриотической направленности и размещение его в социальных сетях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ма 6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Подготовка и проведение турнира по интеллектуальной игре «Брейн – ринг» по исторической тематике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ма 7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Фестиваль творческих программ «Моё время»; Конкурс исторических костюмов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Тема 8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Образовательные квесты по территории «Артека»;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Оператор\Desktop\гол.gif"/>
          <p:cNvPicPr/>
          <p:nvPr/>
        </p:nvPicPr>
        <p:blipFill>
          <a:blip r:embed="rId1"/>
          <a:stretch/>
        </p:blipFill>
        <p:spPr>
          <a:xfrm>
            <a:off x="4608360" y="3513240"/>
            <a:ext cx="4535640" cy="334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перед в прошлое». Новиз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виз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овательной программы заключается в возможности участников проявить компетентность в формах культурно-образовательной, социально-значимой, досуговой, спортивно-краеведче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культурно-образовательных технологий способствует эффективности освоения детьми и подростками закономерностей, фактов отечественной истории, культуры патриотического сознания, критического мышления, через коллективное творчество участ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C:\Users\Оператор\Desktop\кр.gif"/>
          <p:cNvPicPr/>
          <p:nvPr/>
        </p:nvPicPr>
        <p:blipFill>
          <a:blip r:embed="rId1"/>
          <a:stretch/>
        </p:blipFill>
        <p:spPr>
          <a:xfrm>
            <a:off x="4606920" y="3511440"/>
            <a:ext cx="4537080" cy="334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перед в прошлое». Актуа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ая программа предоставляет возможность организовать опережающее обучение социально-педагогической направленности в соответствии с современными требованиями, предъявляемыми системой образования Российской Федерации к программам дополнительного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уальность программы определяется приоритетами государственной политики в области образования, содержанием социального заказа государства на воспитание патриота своей Родины с активной жизненной позицией, основанной на традиционных российских ценн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Users\Оператор\Desktop\гол.gif"/>
          <p:cNvPicPr/>
          <p:nvPr/>
        </p:nvPicPr>
        <p:blipFill>
          <a:blip r:embed="rId1"/>
          <a:stretch/>
        </p:blipFill>
        <p:spPr>
          <a:xfrm>
            <a:off x="4608360" y="3513240"/>
            <a:ext cx="4535640" cy="334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перед в прошлое». Ц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ультурно-образовательных технологий для практической деятельности детских и молодежных военно-патриотических и военно-исторических клубов и объединений, популяризации военно-исторических знаний в подростковой среде по принципу «сверстник-сверстник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Users\Оператор\Desktop\кр.gif"/>
          <p:cNvPicPr/>
          <p:nvPr/>
        </p:nvPicPr>
        <p:blipFill>
          <a:blip r:embed="rId1"/>
          <a:stretch/>
        </p:blipFill>
        <p:spPr>
          <a:xfrm>
            <a:off x="4606920" y="3511440"/>
            <a:ext cx="4537080" cy="3346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перед в прошлое». 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задачи программ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 обучающихся с назначением, структурой и подходами к изучению и реконструкцией событий отечественной истории, сохранением исторических памятных мест, работы с электронными базами данных, работы с картами, с технологическими основами сбора и обработки исторической информации, основами поисковой деятельности, средствами сохранения культурно-исторического наследия стра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держка самостоятельности, ответственности, умения объективно оценить индивидуальный вклад в коллективную деятельность и проведение мастер-классов, активность участников в ходе историко-краеведческого марафона «Вперед в прошлое», работу в командах (культурно-образовательных, спортивных, волонтерских, профильных, творческих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Users\Оператор\Desktop\гол.gif"/>
          <p:cNvPicPr/>
          <p:nvPr/>
        </p:nvPicPr>
        <p:blipFill>
          <a:blip r:embed="rId1"/>
          <a:stretch/>
        </p:blipFill>
        <p:spPr>
          <a:xfrm>
            <a:off x="4608360" y="3513240"/>
            <a:ext cx="4535640" cy="334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Оператор\Desktop\рвио.gif"/>
          <p:cNvPicPr/>
          <p:nvPr/>
        </p:nvPicPr>
        <p:blipFill>
          <a:blip r:embed="rId2"/>
          <a:stretch/>
        </p:blipFill>
        <p:spPr>
          <a:xfrm>
            <a:off x="255600" y="5861160"/>
            <a:ext cx="851040" cy="77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российский слёт юных истори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перед в прошлое». Ожидаемые результа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79040" y="1580760"/>
            <a:ext cx="7583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и освоения программы, обучающиеся долж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различных видов; военно-исторических и военно-патриотических клубов и объединений детей и молодежи, их лучшие технологии культурно-образовательной деятельности, патриотического воспит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о решать культурно-образовательные задачи в проектной деятельности, связанной с формированием патриотического сознания и популяризации военно-исторических знаний (планировать предстоящие действия, применять полученные знания, приемы и опыт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 модели реконструкций событий отечественной истории, сохранения исторических памятных мест, обрабатывать историческую информацию, организовывать социально-культурную деятельность со сверстниками, использовать средства сохранения исторического наслед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C:\Users\Оператор\Desktop\Лого кр.gif"/>
          <p:cNvPicPr/>
          <p:nvPr/>
        </p:nvPicPr>
        <p:blipFill>
          <a:blip r:embed="rId3"/>
          <a:stretch/>
        </p:blipFill>
        <p:spPr>
          <a:xfrm>
            <a:off x="8170920" y="274680"/>
            <a:ext cx="662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0T23:17:39Z</dcterms:created>
  <dc:creator>София Руслан</dc:creator>
  <dc:description/>
  <dc:language>en-US</dc:language>
  <cp:lastModifiedBy>Пидкова Ксения Игоревна</cp:lastModifiedBy>
  <dcterms:modified xsi:type="dcterms:W3CDTF">2017-03-22T12:41:25Z</dcterms:modified>
  <cp:revision>22</cp:revision>
  <dc:subject/>
  <dc:title>Всероссийский слёт юных историков  «Вперед в прошлое».</dc:title>
</cp:coreProperties>
</file>